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A99-3874-4030-9B90-ECB932CD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8BA-F842-41DE-B87D-7D65EC2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E6C-630C-4972-92AE-C89E90D2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C81-4AB7-4739-AF31-D94A5E12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C1A6-324C-484D-8B21-FF771499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370E-0EE8-410E-A5AF-B621709F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D613-C486-4266-B94D-9D5C101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A333-2C3D-45F2-9785-A80D299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577D-F2A7-4FBE-9312-711ED9F8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337-3147-463F-BD76-6AEDC196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593-0628-4C41-8AAC-324E18E6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946-C5B2-4D0C-B4ED-70A8180A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A806-C668-4D4D-A353-E9426DD9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43DC-1B99-45F7-9150-C9A3D69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9F94-46F9-4E95-8FCB-3FB4190E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AFB-8190-46FA-8A6E-C14CECCC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AFC-5C33-46DB-8F66-C8AFDDD3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E8C-C236-48DF-ADCB-E3084B0B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159-85F0-4B39-B8B6-49811BC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3DA-6822-4995-93BE-9BA70362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92D-57FA-4400-A1F1-7D1D6D4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C48-3D84-4964-87F3-0166252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FE0-834E-4E3B-A0BD-5CB8784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CEB-68D8-427E-98E5-F926585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8F1-BB86-470C-BE35-09D0D5883A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8A6-DCE9-45C3-8FEB-67889114B4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 types of Evidenc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719360"/>
            <a:ext cx="9220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Personal Experience (anecdotes/sto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tatistic/Reason/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llusion (historical refere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Authority and or quotes ( expert inform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Examples and or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Analogy (comparison…like a long simi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 Hypothetical Situ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scription of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  Commentary (comments from author or oth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Evidence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 partner work to prove or disprove the following statement using the workshee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cohol is worse than other dru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change # 5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work-Types of Evid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719000"/>
            <a:ext cx="43434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. In groups select one of the arguments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cohol is a drug and should be treated as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vernment should not regulate alcohol more than it already do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vernment should regulate alcohol more than it already do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should practice self-pro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ou will receive a type of evidence * DON’T TRADE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With your group, create a well developed paragraph that uses the type of evidence you have been given to support the argument you have sel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on’t borrow evidence from the arti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 the types of evidence handout to assist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nalyzing &amp; Summarizing Eviden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1:30:16Z</dcterms:created>
  <dc:creator>Nvasquez</dc:creator>
  <dc:description/>
  <dc:language>en-US</dc:language>
  <cp:lastModifiedBy>Nvasquez</cp:lastModifiedBy>
  <dcterms:modified xsi:type="dcterms:W3CDTF">2009-11-17T21:57:42Z</dcterms:modified>
  <cp:revision>7</cp:revision>
  <dc:subject/>
  <dc:title>What are the types of Evidence?</dc:title>
</cp:coreProperties>
</file>